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43880" cy="985680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570">
                <a:moveTo>
                  <a:pt x="5" y="0"/>
                </a:moveTo>
                <a:arcTo wR="5" hR="5" stAng="16200000" swAng="-5400000"/>
                <a:lnTo>
                  <a:pt x="0" y="31565"/>
                </a:lnTo>
                <a:arcTo wR="5" hR="5" stAng="10800000" swAng="-5400000"/>
                <a:lnTo>
                  <a:pt x="21595" y="3157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19240" y="-36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07560" y="739440"/>
            <a:ext cx="4916520" cy="36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344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19240" y="9361080"/>
            <a:ext cx="29113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25CFC-718E-4ED7-9569-DCE64BE13B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7920" y="7398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7920" y="739800"/>
            <a:ext cx="491976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298-DF6E-4DE0-B6FD-91EE008A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BBE-A9AC-437C-B7C6-E9A7BBED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556-C9E2-4A94-A863-56104D05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16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16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2B2-0D1A-44D8-8CDD-125734F8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84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F93-7654-493C-A81D-5ACEB2A4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568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4160" y="114264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568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4160" y="3847680"/>
            <a:ext cx="26460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0E8-F951-4386-BC4E-CEA0A68B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806-A372-46C5-BA52-CE7C15F0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D9F-7313-4F1A-99F1-BA72F178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184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FE4-2E1F-4D22-BF7A-FAEC314D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576-78CB-4FEF-9BDA-FDC5F16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120" y="384768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FCB-104E-4A97-879C-41AF2A84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142640"/>
            <a:ext cx="401040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7680"/>
            <a:ext cx="821844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81A-A847-41FA-B25E-0A9444C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1760" y="6059520"/>
            <a:ext cx="901224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2184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2" marL="11430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3" marL="16002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4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5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6" marL="2057400" indent="-22860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527520"/>
            <a:ext cx="151272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040" y="6527520"/>
            <a:ext cx="41799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120" y="6527880"/>
            <a:ext cx="903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426AFE7A-CE11-43D2-A458-8FD8FD3FF2DF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61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3600" cy="1722240"/>
            <a:chOff x="228600" y="5000760"/>
            <a:chExt cx="8913600" cy="17222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5480" y="5051160"/>
              <a:ext cx="5256720" cy="16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160" cy="17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4200" indent="-2142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5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Utah MT"/>
              </a:rPr>
              <a:t>Towards real-time e-VLBI operation: scheduling, monitoring  and calibra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Bitstream Charter"/>
                <a:ea typeface="Arial"/>
              </a:rPr>
              <a:t>De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Bitstream Charter"/>
                <a:ea typeface="Arial"/>
              </a:rPr>
              <a:t>EXPReS Scientific Programmer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ibration (3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tConvert adapted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handles Westerbork data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includes TSYS and GAINC tab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Results used in Classic AIP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CB8-5EF3-4B38-8F9F-631EE6A8AF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urrent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Dynamic schedul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ations' participation sough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Dynamic monitoring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Mostly working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ations' participation sough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Almost real-time callibration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Data fetching tools w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ill some wrinkles with classic AIP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907-BB54-4707-BD8F-00C9439956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atch” mode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819-56F9-4D55-AF0E-0612549ED2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ynamic datafl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C22-054E-4D1F-8F74-FC510D70C1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eld System (1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301920" cy="327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37160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Originally written for the HP1000/R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Now emulated on Un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Maintained by Ed Himw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Not a traditional JIVE conc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932-8972-426B-AEE9-E25AFA3156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eld System (2/3): </a:t>
            </a:r>
            <a:r>
              <a:rPr b="0" lang="en-US" sz="3600" spc="-1" strike="noStrike">
                <a:solidFill>
                  <a:srgbClr val="333399"/>
                </a:solidFill>
                <a:latin typeface="Courier New"/>
              </a:rPr>
              <a:t>drud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A FS program used to process schedul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Customised for individual station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Menu-driven, interactive FORTRAN progra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Now scripted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ython/expect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1A0-60BB-4174-B3B7-0FE7E255DC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eld System (3/3): Current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02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Dynamic workflow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chedule distribution from JIVE (rsync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chedule processing (-&gt; SNAP file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chedule injection to Field System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All tested on Westerb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Not all at the same tim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ingle dish mod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New participants actively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980-D02E-443F-91AB-702553E83D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ynamic monit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Existing piece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ield system produces logs of system temperatur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FS includes log plott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pl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Modifications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1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ync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 fetches logs to JIVE in real-tim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Plotter rewritten in Python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Multiple stations in parallel (display at JIVE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Working with Westerbork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Additional participants sought!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A7B-39DB-4057-9F02-2E5B3E0A73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ibration (1/3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9240">
              <a:lnSpc>
                <a:spcPct val="101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Westerbork produces synthesis array data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Not usually used for VLBI, but could b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Data is available “almost live”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marL="228600" indent="-219240">
              <a:lnSpc>
                <a:spcPct val="107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Roadmap: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Find and download data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Process data (from MS to IDI-FITS format)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  <a:p>
            <a:pPr lvl="1" marL="685800" indent="-228600">
              <a:lnSpc>
                <a:spcPct val="107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Charter"/>
              </a:rPr>
              <a:t>Calibrate</a:t>
            </a: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7A6-9F36-4BAD-AC82-6B2F88CF2E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0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ibration (2/3): selecting dat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00800" cy="5121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98800" y="284004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02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progress 2008, Utrech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599-2913-4AE6-8B6F-8AB73857BF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-01-29 (ii)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id Brouwer</cp:lastModifiedBy>
  <dcterms:modified xsi:type="dcterms:W3CDTF">2008-01-29T08:06:38Z</dcterms:modified>
  <cp:revision>1</cp:revision>
  <dc:subject/>
  <dc:title>Slide 1</dc:title>
</cp:coreProperties>
</file>